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D871B-25D5-4C22-BEFF-EDCA990F1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7FF6-0150-45DD-AC8B-5458B6F5D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FE1B-3145-443C-B4E3-CA7AC5932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A48F-3790-4E15-BB21-B4EC54DA6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19A85-74F0-4E9E-A3A6-9647B3414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47D8-9460-4FCB-A83E-29B3702C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6E11-EE92-47A4-8C09-ECBBAFBC7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EBAE-78F4-4247-9CCA-330AAE394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8C14-A304-43F7-B150-73705022F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8BC2-0824-49BB-A242-CD1F757D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7031-A3FA-44C3-AFB7-52A282E33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509A-8058-46AC-85E0-0DA5B7213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A5504-0802-4022-9555-99D16BFB4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3:31:27Z</dcterms:created>
  <dc:creator>INVES-S6600A</dc:creator>
  <dc:description/>
  <dc:language>en-US</dc:language>
  <cp:lastModifiedBy>INVES-S6600A</cp:lastModifiedBy>
  <dcterms:modified xsi:type="dcterms:W3CDTF">2010-11-23T13:31:43Z</dcterms:modified>
  <cp:revision>1</cp:revision>
  <dc:subject/>
  <dc:title>Diapositiva 1</dc:title>
</cp:coreProperties>
</file>